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30550-1438-4FA0-9476-25989E71D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4FDBF-9DD0-41DF-A64C-9BF068F42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068D3-8C51-4EB7-8F49-21E8C7A62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9AF28-DCF5-45EC-B74C-3B92F5670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E57DD-F365-4FBF-9338-4A49304EC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7F434-D80D-4486-881B-865B1C75C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82D85-DEA2-435F-AD16-A54C35929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6BB5E-944F-4093-AFB8-458BF7479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9E021-29BD-4CB2-B929-E090CA86A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8943A-982B-4086-901A-D1836B998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CE2D2-9201-446E-A79B-0E071D36B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667C6-7A01-47BA-92B4-4266EC881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1F010-C75D-48A2-8678-743C0F5EB16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50400"/>
            <a:ext cx="7772400" cy="110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Calibri"/>
              </a:rPr>
              <a:t>Что? Где? Когда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2" descr="https://psv4.userapi.com/c235031/u8334488/docs/d43/7df4ca68b4f8/Viktorina_Podvig_uchitelstva.jpg?extra=bOkdtXJ2xlQItq9bFi0gNSxfKhOhIvlRwiX6q5_HW-yrIuyqJOyfNsdtw4pF4Hv0O-fBDFV9-vWSLLWJeYX9Qb89eB9FjiQOEAR52tMi4vWzuQGr3ni159hxwr32cqf6JeUn9bEjIjU-l6xeGMZ4"/>
          <p:cNvPicPr/>
          <p:nvPr/>
        </p:nvPicPr>
        <p:blipFill>
          <a:blip r:embed="rId1"/>
          <a:stretch/>
        </p:blipFill>
        <p:spPr>
          <a:xfrm>
            <a:off x="755640" y="987480"/>
            <a:ext cx="7770960" cy="38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Calibri"/>
              </a:rPr>
              <a:t>Вопрос 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108000" y="987480"/>
            <a:ext cx="892800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Знаменитый педагог XVII века Ян Амос Коменский был первым, кто, идя в ногу с техническим прогрессом, стал использовать это в учебниках, причем по всем предметам, ибо это, по его — совершенно обоснованному — мнению, сильно облегчает усвоение и понимание любого учебного материала. А позже использование этого и вовсе вошло в историю как «золотое правило дидактики». О чем идет речь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Calibri"/>
              </a:rPr>
              <a:t>Вопрос 1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108000" y="987480"/>
            <a:ext cx="892800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звестный педагог  А.С. Макаренко описывает историю одного сердобольного мальчика. Он очень переживал за свою игрушку, потому что ему казалось, что она никогда не может уснуть. Заботясь о ее здоровье, мальчик периодически клал ей на голову тяжелые предметы. Назовите, что это за игрушк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Calibri"/>
              </a:rPr>
              <a:t>Вопрос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асилий Жуковский сравнивал воспитание детей с написанием поэтического произведения. Такое произведение он называл сочетанием из двух слов, начинающихся на одну и ту же букву. Напишите это словосочетание, ставшее в тридцатых годах двадцатого века названием знаменитой книги по педагогик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Calibri"/>
              </a:rPr>
              <a:t>Вопрос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Древнем Риме — учитель, обучающий детей азам языкознания — грамматик, учитель чтения — литератор, раб, сопровождающий детей в школу и из школы — педагог. А как в Древнем Риме называли учителя арифметики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Calibri"/>
              </a:rPr>
              <a:t>Вопрос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середине 70-х молодой советский учитель позволил себе вольность в своем внешнем виде. Точнее  - отрастил бородку.  В результате чего заслужил выговор от начальства. «На кого ты равняешься! — кричал директор. — На аполитичных стиляг?». «Нет, на него», — невозмутимо ответил учитель и указал на портрет, висящий на стене. Чей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Calibri"/>
              </a:rPr>
              <a:t>Вопрос 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огда несколько столетий назад появился танец «вальс», многие заметили, что он был гораздо проще популярных тогда танцев, т.к. состоял из очень простых и легко запоминающихся движений. Новый танец стали осуждать не только по моральным соображениям. Первыми, кто выступили против, стали, как ни странно, учителя танцев. Почему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Calibri"/>
              </a:rPr>
              <a:t>Вопрос 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08576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звестно, что пророка Моисея иудеи именуют Моше Рабейну, то есть Учитель, Наставник. А юморист Михаил Векслер выразил это в афоризме: «Моисей — всем евреям ...!». Закончите этот афоризм одним иностранным, но далеким от Израиля, словом, синонимом слова «учитель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Calibri"/>
              </a:rPr>
              <a:t>Вопрос 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085760"/>
            <a:ext cx="8229600" cy="378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редставители особой субкультуры хиппи или стиляг, распространённой в советское время, любили переделывать привычные нам имена и фамилии на иностранный манер. Так, например, Анна могла стать Энн, а Борис – Боб. Кроме того, они стали называть фамилии известных людей – а именно, Владимира Ильина Ленина и педагога Антона Семеновича Макаренко – фамилиями двух чрезвычайно известных в то время англичан. Нам неизвестно, встречались ли когда-то Макаренко и Ленин. Чего нельзя сказать об этих англичанах, ведь они вместе играли в одной популярной группе. Назовите эту группу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Calibri"/>
              </a:rPr>
              <a:t>Вопрос 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107640" y="987480"/>
            <a:ext cx="5327640" cy="378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еред вами изображение купюры в тысячу итальянских лир, на которой находится ребенок. На обратной стороне данной купюры изображена женщина, выдающийся педагог, единственная женщина, включенная в 1988 году ЮНЕСКО в список из четырех человек, определивших способы педагогического мышления в XX веке. В соответствии с её принципом, в центре педагогической системы, как и на изображении купюры, находится ребенок. Назовите фамилию женщины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Рисунок 3" descr=""/>
          <p:cNvPicPr/>
          <p:nvPr/>
        </p:nvPicPr>
        <p:blipFill>
          <a:blip r:embed="rId1"/>
          <a:stretch/>
        </p:blipFill>
        <p:spPr>
          <a:xfrm>
            <a:off x="5292720" y="1779480"/>
            <a:ext cx="3714840" cy="19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Calibri"/>
              </a:rPr>
              <a:t>Вопрос 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108000" y="987480"/>
            <a:ext cx="892800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Вопрос состоит из двух историй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1. В заставке американского мультсериала «Симпсоны» демонстрируется очень популярное в западных школах наказание – а именно написание оной и той же фразы на доске много раз, чтобы лучше ее запомнить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2. Бянг — это блюдо из лапши, подаваемое в китайской провинции Шэньси. _______ Бянг состоит из 56 компонентов и считается одним из самых сложных, поэтому педагог Ванг СижУн использовал его для наказания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оняв, как связаны эти две истории, напишите, какое слово мы пропустили в предыдущем предложении?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2T09:07:49Z</dcterms:created>
  <dc:creator>zerkalo</dc:creator>
  <dc:description/>
  <dc:language>en-US</dc:language>
  <cp:lastModifiedBy>ALFA</cp:lastModifiedBy>
  <dcterms:modified xsi:type="dcterms:W3CDTF">2023-01-25T18:18:37Z</dcterms:modified>
  <cp:revision>135</cp:revision>
  <dc:subject/>
  <dc:title>Слайд 1</dc:title>
</cp:coreProperties>
</file>