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69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1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144.xml.rels" ContentType="application/vnd.openxmlformats-package.relationships+xml"/>
  <Override PartName="/ppt/slides/_rels/slide1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28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13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662D-B38E-4FC3-8FD4-3E92763F1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9A85-8280-4906-AE76-82C72BD5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138E-26B6-4ABB-B914-B41EFBE29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A9B8-F3A3-4338-9195-6F6DC80E9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9440-D375-4299-A28E-D3199085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E466-4A5B-4CB9-9BD2-2950D3A6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9471-F002-483B-8286-F70D4D65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06DE-17B9-4BFF-912B-CF8C2F8F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D56E-AF03-47C0-B176-B1921833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9CE2-4798-4EA3-869B-B6944AB4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93E2-9BAA-41A5-9343-86597EBB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D74D-7B77-40AB-9DB0-FBA5D4D8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17DF-9FE0-403F-95D5-DE4F75A312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79280" y="339840"/>
            <a:ext cx="885060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71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389" name="TextBox 1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393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397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01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05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09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13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17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21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25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10"/>
          <p:cNvSpPr/>
          <p:nvPr/>
        </p:nvSpPr>
        <p:spPr>
          <a:xfrm>
            <a:off x="155520" y="-1080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30" name="Прямоугольник 9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10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35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42" name="Прямоугольник 10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11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47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52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4"/>
          <p:cNvSpPr/>
          <p:nvPr/>
        </p:nvSpPr>
        <p:spPr>
          <a:xfrm>
            <a:off x="142920" y="106200"/>
            <a:ext cx="2017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57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62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67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72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77" name="Прямоугольник 1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485" name="Стрелка вниз 1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489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493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497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01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05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09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13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17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21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556000" y="136440"/>
            <a:ext cx="5329080" cy="48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62" name="Прямоугольник 1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66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70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74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78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82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86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90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94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5"/>
          <p:cNvSpPr/>
          <p:nvPr/>
        </p:nvSpPr>
        <p:spPr>
          <a:xfrm>
            <a:off x="1253160" y="320760"/>
            <a:ext cx="675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Arial"/>
              </a:rPr>
              <a:t>МЕДИА - АЛФАВИ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24160" y="1531800"/>
            <a:ext cx="6419520" cy="32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155520" y="-1080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142920" y="106200"/>
            <a:ext cx="2000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36" name="Прямоугольник 6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7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41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4"/>
          <p:cNvSpPr/>
          <p:nvPr/>
        </p:nvSpPr>
        <p:spPr>
          <a:xfrm>
            <a:off x="15408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46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51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66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2T09:07:49Z</dcterms:created>
  <dc:creator>zerkalo</dc:creator>
  <dc:description/>
  <dc:language>en-US</dc:language>
  <cp:lastModifiedBy>Савина Дарья Александровна</cp:lastModifiedBy>
  <dcterms:modified xsi:type="dcterms:W3CDTF">2023-01-24T15:29:37Z</dcterms:modified>
  <cp:revision>126</cp:revision>
  <dc:subject/>
  <dc:title>Слайд 1</dc:title>
</cp:coreProperties>
</file>